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96FF-4EB3-4275-8217-F47DE7D92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D0C4-49CA-44A0-BF61-8B29D654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238A-C2B0-4593-8EB7-EDA5312E8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7828-7E9E-4938-96E2-718DE4084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9F1A-9D3D-46F0-88BF-2BC31E80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9D90-47B1-4A5E-9A8E-A744CD9F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3242-4E3D-4879-BA55-0F83101B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5FD2-C5B1-4A1B-96B6-540B0067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D9B1-17E2-4ED1-BCA1-077A852A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C20F-6FB1-4B06-8AC9-6207244C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8E10-C572-4A97-9D22-FA1411B5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1F5E-B123-44E2-B168-BE494E5A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D40A-1B41-4FFC-96DE-71C011E8AA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eting Student Nee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8580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Using appropriate interventions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ifferentiated i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emedial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efer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arnia Train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DC @ Mohawk Avenu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t. 1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   Grade 3 teachers- 8:30 to 11:30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Grade 4 teachers,12:30 to 3: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t. 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   Grade 5 teachers-9:00 to noon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Grade 6,7,8 (math &amp; LAL teacher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) 1:00-4: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t. 2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   8:30-noon, Learnia Lead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i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t. 29 – Oct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  Test wind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r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Learn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mative assessment system empowers educators with periodic information (Oct/Feb)on the progress of students toward acquiring the skills and knowledge that will be assessed on the NJ ASK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7B82-FBAF-4D71-8AD4-97066C0D7C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1 – Differentiated I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ia Supports Your Instruction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ing data that can be integrated into the instructional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wing for differentiated planning and instru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student progress toward proficiency on NJ CCC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final3"/>
          <p:cNvPicPr/>
          <p:nvPr/>
        </p:nvPicPr>
        <p:blipFill>
          <a:blip r:embed="rId1"/>
          <a:stretch/>
        </p:blipFill>
        <p:spPr>
          <a:xfrm>
            <a:off x="496800" y="114480"/>
            <a:ext cx="7631280" cy="61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533520" y="457200"/>
            <a:ext cx="7924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earnia web-based system provides information about the strengths and weaknesses of individual stud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erting educators to any potential gap in student pro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erting educators to any student who has already mastered grade level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Final12"/>
          <p:cNvPicPr/>
          <p:nvPr/>
        </p:nvPicPr>
        <p:blipFill>
          <a:blip r:embed="rId1"/>
          <a:stretch/>
        </p:blipFill>
        <p:spPr>
          <a:xfrm>
            <a:off x="304920" y="228600"/>
            <a:ext cx="7983360" cy="582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vel 2 – Remedial Pr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s Intervention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o the Math/Marilyn Bur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ing Intervention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ultisensory  Read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vel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erral – Students who have been experiencing difficulty with acquiring grade level skills will be monitored through the I&amp;RS process.  Students who continue to experience difficulty acquiring grade level skills after participating in a remedial math and/or reading program, would be recommended for the referral process by the I&amp;RS te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ggested 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vel 1: October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results used to set learning goal for December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 Students who achieve goal should set new, higher level goal.  Students who do not achieve goal should be screened for level 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vel 2:  December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– February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ebruary-Take Learnia form 2.  Students who have not demonstrated progress will proceed to level 3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vel 3:  February 18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-Student intervention data shared with I&amp;RS for referr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12:49:07Z</dcterms:created>
  <dc:creator>Sparta</dc:creator>
  <dc:description/>
  <dc:language>en-US</dc:language>
  <cp:lastModifiedBy>Sparta</cp:lastModifiedBy>
  <dcterms:modified xsi:type="dcterms:W3CDTF">2008-09-09T15:40:54Z</dcterms:modified>
  <cp:revision>35</cp:revision>
  <dc:subject/>
  <dc:title>Formative Assessment to Identify Student Needs</dc:title>
</cp:coreProperties>
</file>